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Произвольный показ 1" id="0">
      <p:sldLst>
        <p:sld r:id="rId8"/>
        <p:sld r:id="rId9"/>
      </p:sldLst>
    </p:custShow>
    <p:custShow name="Произвольный показ 2" id="1">
      <p:sldLst>
        <p:sld r:id="rId10"/>
        <p:sld r:id="rId11"/>
        <p:sld r:id="rId12"/>
      </p:sldLst>
    </p:custShow>
    <p:custShow name="Произвольный показ 3" id="2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2931-25BD-4BC2-9E9A-E7AAD561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84BA-A26C-4D5C-B605-1743F20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9302-E1B9-4A16-A858-7412BEE3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B5DB-ABA6-4F7D-8120-67366D52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FB4C-C939-4673-BF8E-439F4B82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191E-7BBC-4A31-9DEE-29C2984C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5E6-C0AD-4AD8-BA48-58E26578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949-C7C9-474C-83F3-D0FD290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C431-2CA3-424E-931F-21EED4C2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90E8-3BE2-4A7D-BB77-120C2C1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EA9-3B46-4E51-BBD6-5ECEDAB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8A81-F172-4B43-A6F7-40D0D759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D452-CBA8-4F6F-815C-B5F7034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EDA-1149-4E01-AB83-BD88840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A794-77F1-4416-820F-E8592A0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5CA3-5245-4424-BAA2-96831A6E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3499-15F2-4C2A-AD7B-BF9BB0F0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1290-F97D-45FC-9A93-5447C50A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57DA-B1D8-43EE-9639-8789FFD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4B05-967B-4647-AA1A-F989DD8D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20AA-0EC6-4606-9C03-E3F8F720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8FEB-16E2-45B1-B96A-9B1AE2C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81D5-FF93-4146-B1D8-04E4FC1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1715-E87A-44E7-8E20-B4AEAD9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E4B-B2F5-45DD-B971-02BE1EC876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F8B2-F01F-40F0-AA9D-5C568D8A9B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dfdef6"/>
                </a:solidFill>
                <a:latin typeface="Arial"/>
              </a:rPr>
              <a:t>Развитие живой природы на Земле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8040" y="-2746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нтропогенное воздейств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-360" y="1157400"/>
            <a:ext cx="48006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fdef6"/>
                </a:solidFill>
                <a:latin typeface="Arial"/>
              </a:rPr>
              <a:t>Деятельность человека как фактор эволю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fdef6"/>
                </a:solidFill>
                <a:latin typeface="Arial"/>
              </a:rPr>
              <a:t>Изменение климата, загрязнение, уничтожение местообит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fdef6"/>
                </a:solidFill>
                <a:latin typeface="Arial"/>
              </a:rPr>
              <a:t>Важность устойчивого развития и понимания этих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15" descr="Картинка 29 из 25602"/>
          <p:cNvPicPr/>
          <p:nvPr/>
        </p:nvPicPr>
        <p:blipFill>
          <a:blip r:embed="rId4"/>
          <a:stretch/>
        </p:blipFill>
        <p:spPr>
          <a:xfrm>
            <a:off x="5094360" y="2133720"/>
            <a:ext cx="4038480" cy="2371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8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WordArt 4"/>
          <p:cNvSpPr txBox="1"/>
          <p:nvPr/>
        </p:nvSpPr>
        <p:spPr>
          <a:xfrm>
            <a:off x="0" y="2057400"/>
            <a:ext cx="8991720" cy="31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Геохронологическая шкал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6" name="Picture 3" descr="Копия 40731[1]"/>
          <p:cNvPicPr/>
          <p:nvPr/>
        </p:nvPicPr>
        <p:blipFill>
          <a:blip r:embed="rId1"/>
          <a:stretch/>
        </p:blipFill>
        <p:spPr>
          <a:xfrm>
            <a:off x="0" y="914400"/>
            <a:ext cx="3657600" cy="57913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4360" y="1218960"/>
            <a:ext cx="5486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вая природа — сложный и многоступенчатый проце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ь с геологической историей и изменениями клим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олюция от одноклеточных организмов до сложных экосис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Геологическая история Земл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942840"/>
            <a:ext cx="5181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dfdef6"/>
                </a:solidFill>
                <a:uFillTx/>
                <a:latin typeface="Arial"/>
              </a:rPr>
              <a:t>Первые признаки жизни: около 3,8 миллиарда лет наз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Деление на пять э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Архе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Протерозо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Палеозо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Мезозо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Кайнозойская (началась 70 миллионов лет наз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4" descr="jizn"/>
          <p:cNvPicPr/>
          <p:nvPr/>
        </p:nvPicPr>
        <p:blipFill>
          <a:blip r:embed="rId8"/>
          <a:stretch/>
        </p:blipFill>
        <p:spPr>
          <a:xfrm>
            <a:off x="5486400" y="3886200"/>
            <a:ext cx="3621240" cy="271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1" name="Picture 6" descr="Картинка 1 из 1"/>
          <p:cNvPicPr/>
          <p:nvPr/>
        </p:nvPicPr>
        <p:blipFill>
          <a:blip r:embed="rId9"/>
          <a:stretch/>
        </p:blipFill>
        <p:spPr>
          <a:xfrm>
            <a:off x="5486400" y="685800"/>
            <a:ext cx="368136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3915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нешний облик земли в катархе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5" descr="Картинка 2 из 157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Картинка 16 из 157"/>
          <p:cNvPicPr/>
          <p:nvPr/>
        </p:nvPicPr>
        <p:blipFill>
          <a:blip r:embed="rId2"/>
          <a:stretch/>
        </p:blipFill>
        <p:spPr>
          <a:xfrm>
            <a:off x="4952880" y="1143000"/>
            <a:ext cx="3810240" cy="27525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Картинка 11 из 157"/>
          <p:cNvPicPr/>
          <p:nvPr/>
        </p:nvPicPr>
        <p:blipFill>
          <a:blip r:embed="rId3"/>
          <a:stretch/>
        </p:blipFill>
        <p:spPr>
          <a:xfrm>
            <a:off x="2895480" y="4038480"/>
            <a:ext cx="320040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2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ландшафт архея"/>
          <p:cNvPicPr/>
          <p:nvPr/>
        </p:nvPicPr>
        <p:blipFill>
          <a:blip r:embed="rId1"/>
          <a:stretch/>
        </p:blipFill>
        <p:spPr>
          <a:xfrm>
            <a:off x="4343400" y="3803760"/>
            <a:ext cx="4800600" cy="30542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Эры и их особен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5960" y="761760"/>
            <a:ext cx="4267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Палеозойская эра: развитие рыб и первых наземных раст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Мезозойская эра: господство динозав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Разделение на эры помогает понять эволюционные изме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9" descr="Копия iskop-3[1]"/>
          <p:cNvPicPr/>
          <p:nvPr/>
        </p:nvPicPr>
        <p:blipFill>
          <a:blip r:embed="rId5"/>
          <a:stretch/>
        </p:blipFill>
        <p:spPr>
          <a:xfrm>
            <a:off x="7777080" y="719280"/>
            <a:ext cx="1349280" cy="2019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бесчелюстные"/>
          <p:cNvPicPr/>
          <p:nvPr/>
        </p:nvPicPr>
        <p:blipFill>
          <a:blip r:embed="rId6"/>
          <a:stretch/>
        </p:blipFill>
        <p:spPr>
          <a:xfrm>
            <a:off x="4343400" y="703440"/>
            <a:ext cx="2895480" cy="1582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кистеперые рыбы"/>
          <p:cNvPicPr/>
          <p:nvPr/>
        </p:nvPicPr>
        <p:blipFill>
          <a:blip r:embed="rId7"/>
          <a:stretch/>
        </p:blipFill>
        <p:spPr>
          <a:xfrm>
            <a:off x="4343400" y="2543040"/>
            <a:ext cx="3276720" cy="11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-130680"/>
            <a:ext cx="9372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алеонтология и ископаемы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4" descr="Рисунок4"/>
          <p:cNvPicPr/>
          <p:nvPr/>
        </p:nvPicPr>
        <p:blipFill>
          <a:blip r:embed="rId1"/>
          <a:stretch/>
        </p:blipFill>
        <p:spPr>
          <a:xfrm>
            <a:off x="5608800" y="109044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" y="1090440"/>
            <a:ext cx="55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леонтология — наука о истории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 ископаемые орган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опаемые — остатки или следы древних организмов (скелеты и окаменело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9" descr="болото силура"/>
          <p:cNvPicPr/>
          <p:nvPr/>
        </p:nvPicPr>
        <p:blipFill>
          <a:blip r:embed="rId5"/>
          <a:stretch/>
        </p:blipFill>
        <p:spPr>
          <a:xfrm>
            <a:off x="11160" y="4670280"/>
            <a:ext cx="2590920" cy="21765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Копия psilofit[1]"/>
          <p:cNvPicPr/>
          <p:nvPr/>
        </p:nvPicPr>
        <p:blipFill>
          <a:blip r:embed="rId6"/>
          <a:stretch/>
        </p:blipFill>
        <p:spPr>
          <a:xfrm>
            <a:off x="5608800" y="4067280"/>
            <a:ext cx="351288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ислородная революция и эукариот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207648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Появление цианобактерий (около 2,7 миллиарда лет наза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Изменение состава атмосферы и вымирание анаэробных организ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Симбиоз прокариот привел к появлению эукари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" descr="протерозойский ландшафт"/>
          <p:cNvPicPr/>
          <p:nvPr/>
        </p:nvPicPr>
        <p:blipFill>
          <a:blip r:embed="rId4"/>
          <a:srcRect l="2866" t="0" r="0" b="0"/>
          <a:stretch/>
        </p:blipFill>
        <p:spPr>
          <a:xfrm>
            <a:off x="6081840" y="2287440"/>
            <a:ext cx="1174680" cy="808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море протерозоя"/>
          <p:cNvPicPr/>
          <p:nvPr/>
        </p:nvPicPr>
        <p:blipFill>
          <a:blip r:embed="rId5"/>
          <a:stretch/>
        </p:blipFill>
        <p:spPr>
          <a:xfrm>
            <a:off x="5791320" y="1746360"/>
            <a:ext cx="3200400" cy="2479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протерозойский ландшафт"/>
          <p:cNvPicPr/>
          <p:nvPr/>
        </p:nvPicPr>
        <p:blipFill>
          <a:blip r:embed="rId6"/>
          <a:srcRect l="5858" t="0" r="0" b="0"/>
          <a:stretch/>
        </p:blipFill>
        <p:spPr>
          <a:xfrm>
            <a:off x="5791320" y="4700520"/>
            <a:ext cx="3352680" cy="23148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6240600" y="137952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Жизнь в мор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6697440" y="41893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60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ногоклеточные организмы и выход на сушу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12600" y="1907640"/>
            <a:ext cx="57276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Переход к многоклеточности (около 600 миллионов лет наза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Кембрийский взрыв — увеличение биоразнообраз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ff"/>
                </a:solidFill>
                <a:latin typeface="Arial"/>
              </a:rPr>
              <a:t>Выход растений и животных на сушу в палеозойской э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раковина брахиоподы раковина"/>
          <p:cNvPicPr/>
          <p:nvPr/>
        </p:nvPicPr>
        <p:blipFill>
          <a:blip r:embed="rId4"/>
          <a:stretch/>
        </p:blipFill>
        <p:spPr>
          <a:xfrm>
            <a:off x="6248520" y="1171440"/>
            <a:ext cx="2133360" cy="2181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Фото: nature.com"/>
          <p:cNvPicPr/>
          <p:nvPr/>
        </p:nvPicPr>
        <p:blipFill>
          <a:blip r:embed="rId5"/>
          <a:stretch/>
        </p:blipFill>
        <p:spPr>
          <a:xfrm>
            <a:off x="6324480" y="3809880"/>
            <a:ext cx="2057400" cy="2357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5869080" y="34290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ковинный моллю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57150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5623200" y="6132600"/>
            <a:ext cx="31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ложения протероз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йденные в Австра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Развитие позвоночных и млекопитающих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3" descr="губки"/>
          <p:cNvPicPr/>
          <p:nvPr/>
        </p:nvPicPr>
        <p:blipFill>
          <a:blip r:embed="rId1"/>
          <a:stretch/>
        </p:blipFill>
        <p:spPr>
          <a:xfrm>
            <a:off x="380880" y="1066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noskull[1]"/>
          <p:cNvPicPr/>
          <p:nvPr/>
        </p:nvPicPr>
        <p:blipFill>
          <a:blip r:embed="rId2"/>
          <a:stretch/>
        </p:blipFill>
        <p:spPr>
          <a:xfrm>
            <a:off x="5791320" y="1143000"/>
            <a:ext cx="2666880" cy="1816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отпечаток древнего иглокожего"/>
          <p:cNvPicPr/>
          <p:nvPr/>
        </p:nvPicPr>
        <p:blipFill>
          <a:blip r:embed="rId3"/>
          <a:stretch/>
        </p:blipFill>
        <p:spPr>
          <a:xfrm>
            <a:off x="15840" y="4579920"/>
            <a:ext cx="2117880" cy="22874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отпечаток древнего иглокожего"/>
          <p:cNvPicPr/>
          <p:nvPr/>
        </p:nvPicPr>
        <p:blipFill>
          <a:blip r:embed="rId4"/>
          <a:stretch/>
        </p:blipFill>
        <p:spPr>
          <a:xfrm>
            <a:off x="3581280" y="1143000"/>
            <a:ext cx="1241640" cy="1714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5"/>
          <a:stretch/>
        </p:blipFill>
        <p:spPr>
          <a:xfrm>
            <a:off x="6553080" y="4502160"/>
            <a:ext cx="2590920" cy="23652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8"/>
          <p:cNvSpPr/>
          <p:nvPr/>
        </p:nvSpPr>
        <p:spPr>
          <a:xfrm>
            <a:off x="15840" y="320040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явление хордовых и позвоноч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е экологических ниш благодаря челюстям, конечностям, легк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мирание динозавров открыло путь для млекопитающ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FF</dc:creator>
  <dc:description/>
  <dc:language>en-US</dc:language>
  <cp:lastModifiedBy>STUFF</cp:lastModifiedBy>
  <dcterms:modified xsi:type="dcterms:W3CDTF">2025-01-26T15:37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