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04C-FFB8-428F-964A-60E77E55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8BC0-9B22-485B-B6C3-5C31794C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CCB-6B5A-461D-ACAC-ECE5FDBE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E1B-04E0-4FEF-B7AB-9B2F472A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6F3F-D85D-40D1-BEEB-85F1B632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CFFF-7AFD-4508-B9A9-159AB02B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28E6-A70E-4405-B9A9-2548CE19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5D9B-EC33-4DE1-B167-CC1D0DAF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0BA6-DEDE-48C0-A9DB-38E69F6A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1DBA-3175-4A35-A90B-3F835E02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655B-8F21-4CD9-815E-2C919DE9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CF0A-6291-4857-9981-67F81E95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0FA9-194E-48A6-871F-65919EDE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7FCD-7263-4DE1-81AD-0CB57ABC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6E31-4CCE-43DC-BB27-B411783F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9CD0-A671-42A0-86ED-718233E6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0A42-ED0E-4311-A23D-7C401516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B75-851D-4EAA-B34C-E70D0BA3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DC6-7BCE-4F39-945F-681C4A4E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EF91-FF80-4606-BC64-427A327B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36A1-D3C0-4412-973B-67DF1511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7FF-53FF-4815-B755-0F280975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B3E-93B8-414E-97FF-3FA83751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6FD4-20A6-474A-9E0E-8082CA59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D77A-4305-4F00-83C9-73F1E1CF6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BB85-55AD-422E-ADF6-028B5A2EB2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начение млекопитающих в природе и жизни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9" descr="133088_1"/>
          <p:cNvPicPr/>
          <p:nvPr/>
        </p:nvPicPr>
        <p:blipFill>
          <a:blip r:embed="rId1"/>
          <a:stretch/>
        </p:blipFill>
        <p:spPr>
          <a:xfrm>
            <a:off x="2139840" y="3419640"/>
            <a:ext cx="48960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0800" y="115560"/>
            <a:ext cx="83152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лекопитающие – это животные, которые вскармливают детенышей моло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и живут на суше, в воде и даже умеют летат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и играют важную роль в природе и жизни лю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" descr="0_390b_22360dcd_XL"/>
          <p:cNvPicPr/>
          <p:nvPr/>
        </p:nvPicPr>
        <p:blipFill>
          <a:blip r:embed="rId1"/>
          <a:stretch/>
        </p:blipFill>
        <p:spPr>
          <a:xfrm>
            <a:off x="2340000" y="3557520"/>
            <a:ext cx="3533760" cy="2212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ррр"/>
          <p:cNvPicPr/>
          <p:nvPr/>
        </p:nvPicPr>
        <p:blipFill>
          <a:blip r:embed="rId2"/>
          <a:stretch/>
        </p:blipFill>
        <p:spPr>
          <a:xfrm>
            <a:off x="5076720" y="4924440"/>
            <a:ext cx="2830680" cy="1933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19101640_100__Zayac_"/>
          <p:cNvPicPr/>
          <p:nvPr/>
        </p:nvPicPr>
        <p:blipFill>
          <a:blip r:embed="rId3"/>
          <a:stretch/>
        </p:blipFill>
        <p:spPr>
          <a:xfrm>
            <a:off x="6137280" y="3129120"/>
            <a:ext cx="2995560" cy="2028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3"/>
          <p:cNvPicPr/>
          <p:nvPr/>
        </p:nvPicPr>
        <p:blipFill>
          <a:blip r:embed="rId4"/>
          <a:stretch/>
        </p:blipFill>
        <p:spPr>
          <a:xfrm>
            <a:off x="0" y="4076640"/>
            <a:ext cx="273060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6920" y="152280"/>
            <a:ext cx="83854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Экологическая роль: Стражи прир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10680" y="1796760"/>
            <a:ext cx="6985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algn="ctr">
              <a:lnSpc>
                <a:spcPct val="11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Млекопитающие поддерживают баланс в природ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algn="ctr">
              <a:lnSpc>
                <a:spcPct val="110000"/>
              </a:lnSpc>
              <a:spcBef>
                <a:spcPts val="799"/>
              </a:spcBef>
              <a:spcAft>
                <a:spcPts val="60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Хищники контролируют численность травоядных (волки и леопард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algn="ctr">
              <a:lnSpc>
                <a:spcPct val="110000"/>
              </a:lnSpc>
              <a:spcBef>
                <a:spcPts val="799"/>
              </a:spcBef>
              <a:spcAft>
                <a:spcPts val="60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Травоядные распространяют семена (олени и антилоп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algn="ctr">
              <a:lnSpc>
                <a:spcPct val="110000"/>
              </a:lnSpc>
              <a:spcBef>
                <a:spcPts val="799"/>
              </a:spcBef>
              <a:spcAft>
                <a:spcPts val="60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Роющие улучшают почву (мыши и крот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Рисунок 2" descr=""/>
          <p:cNvPicPr/>
          <p:nvPr/>
        </p:nvPicPr>
        <p:blipFill>
          <a:blip r:embed="rId1"/>
          <a:stretch/>
        </p:blipFill>
        <p:spPr>
          <a:xfrm>
            <a:off x="6877080" y="4971960"/>
            <a:ext cx="2266920" cy="18576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"/>
          <p:cNvPicPr/>
          <p:nvPr/>
        </p:nvPicPr>
        <p:blipFill>
          <a:blip r:embed="rId2"/>
          <a:stretch/>
        </p:blipFill>
        <p:spPr>
          <a:xfrm>
            <a:off x="14400" y="463680"/>
            <a:ext cx="18478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96720" y="33120"/>
            <a:ext cx="9036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лекопитающие – источник пищ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9360" y="1736280"/>
            <a:ext cx="8594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ясо и молоко млекопитающих – важная часть нашего п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ова дает молоко и мясо (фото коровы на пастбищ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инья дает мясо (фото свинь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168374_image_large"/>
          <p:cNvPicPr/>
          <p:nvPr/>
        </p:nvPicPr>
        <p:blipFill>
          <a:blip r:embed="rId1"/>
          <a:stretch/>
        </p:blipFill>
        <p:spPr>
          <a:xfrm>
            <a:off x="0" y="4948200"/>
            <a:ext cx="2050920" cy="1909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korova"/>
          <p:cNvPicPr/>
          <p:nvPr/>
        </p:nvPicPr>
        <p:blipFill>
          <a:blip r:embed="rId2"/>
          <a:stretch/>
        </p:blipFill>
        <p:spPr>
          <a:xfrm>
            <a:off x="7236000" y="-27000"/>
            <a:ext cx="19080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дицина: Помощь от животны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76520"/>
            <a:ext cx="8594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которые млекопитающие помогают нам создавать лекарст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меиный яд используют для лекарств от да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оссумы используют в исследованиях иммунит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2" descr=""/>
          <p:cNvPicPr/>
          <p:nvPr/>
        </p:nvPicPr>
        <p:blipFill>
          <a:blip r:embed="rId1"/>
          <a:stretch/>
        </p:blipFill>
        <p:spPr>
          <a:xfrm>
            <a:off x="5435640" y="4389480"/>
            <a:ext cx="3693960" cy="2462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"/>
          <p:cNvPicPr/>
          <p:nvPr/>
        </p:nvPicPr>
        <p:blipFill>
          <a:blip r:embed="rId2"/>
          <a:stretch/>
        </p:blipFill>
        <p:spPr>
          <a:xfrm>
            <a:off x="-1440" y="4941720"/>
            <a:ext cx="26222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4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машние питомцы – наши друз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9760" y="1557000"/>
            <a:ext cx="6402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обаки и кошки не только радуют нас, но и помогают на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имают стрес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ышают настро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Рисунок 2" descr=""/>
          <p:cNvPicPr/>
          <p:nvPr/>
        </p:nvPicPr>
        <p:blipFill>
          <a:blip r:embed="rId1"/>
          <a:stretch/>
        </p:blipFill>
        <p:spPr>
          <a:xfrm>
            <a:off x="0" y="4373640"/>
            <a:ext cx="3059280" cy="24843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" descr=""/>
          <p:cNvPicPr/>
          <p:nvPr/>
        </p:nvPicPr>
        <p:blipFill>
          <a:blip r:embed="rId2"/>
          <a:stretch/>
        </p:blipFill>
        <p:spPr>
          <a:xfrm>
            <a:off x="6732720" y="716040"/>
            <a:ext cx="226692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0440" y="475920"/>
            <a:ext cx="5506920" cy="356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Млекопитающие играют важную роль в природе и в жизни человека.</a:t>
            </a:r>
            <a:br>
              <a:rPr sz="2800"/>
            </a:b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Защита млекопитающих – это забота о нашей планете и нашем будущем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5" descr="icon"/>
          <p:cNvPicPr/>
          <p:nvPr/>
        </p:nvPicPr>
        <p:blipFill>
          <a:blip r:embed="rId1"/>
          <a:stretch/>
        </p:blipFill>
        <p:spPr>
          <a:xfrm>
            <a:off x="4680" y="3765600"/>
            <a:ext cx="2987640" cy="3110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illu_3"/>
          <p:cNvPicPr/>
          <p:nvPr/>
        </p:nvPicPr>
        <p:blipFill>
          <a:blip r:embed="rId2"/>
          <a:stretch/>
        </p:blipFill>
        <p:spPr>
          <a:xfrm>
            <a:off x="6354720" y="0"/>
            <a:ext cx="2803680" cy="3484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_11111115"/>
          <p:cNvPicPr/>
          <p:nvPr/>
        </p:nvPicPr>
        <p:blipFill>
          <a:blip r:embed="rId3"/>
          <a:stretch/>
        </p:blipFill>
        <p:spPr>
          <a:xfrm>
            <a:off x="6221520" y="3978360"/>
            <a:ext cx="2922480" cy="2879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vet-9000-2"/>
          <p:cNvPicPr/>
          <p:nvPr/>
        </p:nvPicPr>
        <p:blipFill>
          <a:blip r:embed="rId4"/>
          <a:stretch/>
        </p:blipFill>
        <p:spPr>
          <a:xfrm>
            <a:off x="3573360" y="3357720"/>
            <a:ext cx="23986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0800" y="1844640"/>
            <a:ext cx="873756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начение млекопитающих в жизни человеческого общества весьма разнообразно. В нашей стране принят Закон об охране природы, где предусматривается необходимость охраны полезных диких животных, редких и исчезающих вид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-27000" y="4792680"/>
            <a:ext cx="1646280" cy="20685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2" descr=""/>
          <p:cNvPicPr/>
          <p:nvPr/>
        </p:nvPicPr>
        <p:blipFill>
          <a:blip r:embed="rId2"/>
          <a:stretch/>
        </p:blipFill>
        <p:spPr>
          <a:xfrm>
            <a:off x="7781760" y="19080"/>
            <a:ext cx="13622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8880" y="1915920"/>
            <a:ext cx="8385120" cy="25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5400" spc="-1" strike="noStrike">
                <a:solidFill>
                  <a:srgbClr val="7030a0"/>
                </a:solidFill>
                <a:latin typeface="Arial Black"/>
              </a:rPr>
              <a:t>СПАСИБО            </a:t>
            </a:r>
            <a:br>
              <a:rPr sz="5400"/>
            </a:br>
            <a:r>
              <a:rPr b="1" lang="ru-RU" sz="5400" spc="-1" strike="noStrike">
                <a:solidFill>
                  <a:srgbClr val="7030a0"/>
                </a:solidFill>
                <a:latin typeface="Arial Black"/>
              </a:rPr>
              <a:t>             ЗА              </a:t>
            </a:r>
            <a:br>
              <a:rPr sz="5400"/>
            </a:br>
            <a:r>
              <a:rPr b="1" lang="ru-RU" sz="5400" spc="-1" strike="noStrike">
                <a:solidFill>
                  <a:srgbClr val="7030a0"/>
                </a:solidFill>
                <a:latin typeface="Arial Black"/>
              </a:rPr>
              <a:t>     ВНИМАНИЕ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5:39:23Z</dcterms:created>
  <dc:creator>Admin</dc:creator>
  <dc:description/>
  <dc:language>en-US</dc:language>
  <cp:lastModifiedBy>STUFF</cp:lastModifiedBy>
  <dcterms:modified xsi:type="dcterms:W3CDTF">2025-01-26T15:15:02Z</dcterms:modified>
  <cp:revision>15</cp:revision>
  <dc:subject/>
  <dc:title>УРОК ЗООЛОГИИ.  7 класс</dc:title>
</cp:coreProperties>
</file>