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C13-8A71-4DF9-A4D6-884A8B31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35D-1B89-4B33-9557-F44C309A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1B938-8DF0-4150-BC6E-E8A0439D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40A06-20A7-4189-92E6-10D4DA7F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FC7F3-5B85-42E5-BECC-149C0F68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38B90-4437-4354-80BC-F2C6062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6FD97-2584-4AEB-ABCB-AD4373DA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FE0BB-98D7-45C1-B52D-8BCD322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1EDD2-CE95-44FB-85DD-19EB21B1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4B187-2C28-455D-9E4A-F7BDBEC5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9F951-CC35-405B-8415-10F8AB8F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2C894-A270-4C35-8A88-A405990B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988-0483-455F-8A0F-77DC0D1F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BC814-9EFE-447E-8EA2-FC936E10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2767A-B3AA-45BB-A375-0BAF7466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88A09-C7BF-4C8D-A181-6F03885A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19736-AA6D-4ACA-8BF2-E5A780CF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96BAA-894C-4F3E-923A-A9D56560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F8B38-0FB8-4206-9AEE-34224E8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BF606-4B5C-4F48-A331-E04EB76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5CD98-777C-4158-B2C0-DDB4AEA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49781-B2E0-405E-BB31-F9F2E51C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11F5A-7556-4459-9515-9C651178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8D0-54A8-4083-BFD5-40857CE7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6EDF7-8DB2-4AD5-A480-9DAB510E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F07B3-BA51-434D-B43E-50E9024E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C178C-22B9-4AAC-A40A-3DE642D4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8F61C-E7CA-4902-BDE5-33C0B94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617B5-A1F7-46F0-8CF2-A7EEE9DA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0E524-F653-45E9-8F1C-37BFFE9D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4F2BF-6FE3-46CF-BF74-9B0DCA30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7F0AE-2666-4485-A2DA-C501B1AF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AD62B-92FC-454E-9A93-C388D11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1B29A-E257-4D8C-BA9F-2E74B156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8498-FD6A-4315-BA04-4339CDA5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A2951-CBC4-4C59-B9AC-20189F62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E9AFE-7676-4AD6-ABF8-7874AE68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33DC9-A0E7-4C7F-AAC2-3278740B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EA57C-A6FF-4EC2-9EE0-B7C94514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1B088-2AB4-4A07-A5BF-64B4FA91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BD8CF-D80B-485F-9C56-8E1F3A0A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093A6-0A15-4764-B0CA-28A68468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263B8-E4DA-469C-B1E6-B0C10ABC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9CC9B-B4FD-438B-8BD1-B07EC3B4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3057A-902D-4839-9732-2BEB9881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7AC0-2A49-48FB-82F3-521BFD32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0F10D-72AF-42C9-93F1-8C921A0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AB206-BA1B-42C1-B7E8-6BB8BB82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D96E8-359A-49CA-A105-DAD7472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0AA3D-F5BF-40DC-B964-9501A15A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1BD71-7294-47C6-8616-E34BBC71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AF1D3-9E30-40EB-95BC-E762D648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0398B-D3D6-43E3-A844-184737B1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81B76-7F41-4310-9299-52425EE6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41448-9048-4386-9040-182965A8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DE493-77FA-4735-83E4-DBF470DE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BCBC-60A8-4557-BA1D-42641B41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2AB1F-CA0F-48EC-9029-05862A10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F90F0-A628-4149-98A7-257318A9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6FBA0-9852-418F-B41D-BC7D1D79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4E4A9-5AE7-4373-9DDF-DC7A0F6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DC18A-A8D4-48B1-B898-41C1590D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27188-A6BE-4EB0-8FFC-8FC3BCD1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2288F-FC61-43A7-BA2E-F5563F96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D2A99-648F-4255-9EC3-301567F1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1F27C-B6F1-40FB-8C4E-4DA510D9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B1DE6-8D90-4D94-88D6-655CC174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DC78-88A0-46AA-97E0-B7C77820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DF7AE-2BA2-4F58-BF9C-46B80377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5216C-5709-4A46-B989-4E52CF1C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734BC-10E9-458C-917B-C54340A4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3704E-70D6-43BA-8FE3-8B8FE349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EF9F0-57E9-4C35-B1DF-38A197AC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A0306-C471-4FF0-8751-5404BC7A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4FF5C-335F-484E-9618-4DBE75DA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0EAFE-989E-462F-86E5-4DEF9EC4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FA37E-51BF-4889-BFC1-0D15C6FE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26A80-87E4-4309-9B63-699B773B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C1A0-BB95-4971-B254-9709FA14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1DA21-2025-443B-BA65-D2A0EBB2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43A19-44E3-4908-A135-7FC426A8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2AD3D-7F52-4FD4-9D6A-66C1EC27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17CF2-82CB-4FB9-B191-B8EEB741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EFD37-B120-4857-A8A3-6073FBB1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6CA30-85D7-46AF-B218-7287B40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A3CA5-7D94-4A27-BDC9-C6784D43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FE56E-BB2B-4791-A465-E6AF501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3EB3A-FE01-4F60-BE2A-ED19EE52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6454E-B5A2-40F8-B829-F56DA771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CFFC-4E2C-405C-9966-4D3F7A72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5DCDC-48D3-4A3C-9065-CE2B0FD8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1FD5B-0FD8-488E-AC3C-1443697F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B39F6-B7D0-42C6-9F2F-1DAF4AE1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B999E-BE94-4DEB-BEB6-AFA21C33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F25EA-278D-4F96-99FC-C59E7BC3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DEDBD-0416-44F2-8DFA-D7DA0AD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0C03B-3228-437A-AA48-41C85797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95944-38FB-430F-A9ED-32309D2D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FA5FF-36D2-4E82-A587-CFEC405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8A519-2377-4F82-B483-9BA1853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AAB3-5055-460A-A135-ECE9CED7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B20AB-1840-4816-AA38-5CEEBBE0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BA237E-1DE7-4DB5-BCF2-7D246CFB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A6C6C-C0C3-41CA-9655-9CC0CD1B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B8804-032D-42EF-9655-ADEBA612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2CA960-5A49-40A0-84BD-E0C2117F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3ED07-75BA-4723-AAD2-F24DC245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9BA52-C4A3-436A-954F-152EE119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A4689-4A0F-463F-8B81-DAECA03A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13CC8-6BDA-4F17-832D-1FFB7A6D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BF60B-DEC4-4E0D-AB50-D590629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654-200A-468E-AA31-28B17478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28D2-745A-44F1-8D2C-2916DDDB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B7E47-2F6F-4DE8-A7FC-6CFE03E4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A1187-7599-413E-875C-3F73C6A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2EDFE-FE94-4198-B0C4-3EDF3111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FE936-9EA0-4FD2-B4C5-000C6045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6F17F-355F-4923-AB4E-E698AE9E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48C25-98CE-4AB7-8A44-FCF76C39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23000-DAA2-4B16-BE97-4F1D6527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E6E2D-B793-4DA6-BE83-51911F83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8E9ADC-F323-4000-832D-48351BBE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B6CD6-E9F5-4AD6-9538-3F977FA9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AF4C-8E49-4B74-BD86-80DCEA01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60FA8-709D-4B5F-992A-A520697E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6EAEB-ABBE-4A27-8629-1018C169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E9EAD-5775-482D-BD26-78A624C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1CCA6-6700-4A30-905C-F990E0A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AD4A7-720E-4C36-9C4C-FF24BBAA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6B4E7-4638-4055-ABE1-2A04C0E3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058BB-6830-440C-8EFF-484B0E0B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032C4C-FDCB-4FF2-83D2-5EDB7B2E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F2CFD-C28A-4F7C-85CC-6E6D458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EC559-BE6D-46C9-971A-47A9BFAA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5708-F94F-4B7B-AEE0-19E0C941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75DED-E1B6-4ADE-8E86-EFB5C082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1A3974-9027-497F-ABC6-BB18D1F3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9C89F-34C1-47A4-834D-25754693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4843A9-EF7B-4D64-9F6A-69515F95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8C8552-06AB-43A8-AABA-40DC53B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04EAE-A8B4-4AB9-AC91-DFFB572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7E4A1-32FD-48A7-85CF-CC30A8C2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AAC1B-26C6-4FD8-BF6C-EB0CB92A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9E6D4-C8E0-4675-A2AB-5CB276EB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FDF7-D0EB-471A-8BE1-5DAB7995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BE81-B6B0-4AB2-8A3B-821BE264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56FB-8DB8-4A4A-826D-C9F07D30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1907-466F-4707-A61D-CFF0EC1B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A45E-F9E2-403C-AA55-8CBE6F91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4D9A-BB52-49F1-B13A-80F5CA44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EC76-AD63-4AE9-B69F-DC145A28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A63-0D6E-4E92-A811-8E899C77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83A3-D880-46F9-BACD-DE435EC3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9ECC-A10C-458D-91E4-1F70DC8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31A7-BACF-4453-91DF-D640AAC6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D011F-CD83-4C30-8A12-1A887D4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619A-5381-476B-B44B-CEE97BB4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BA69-93EC-4F79-9786-2263D4D1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DC0A-3C5F-4F29-970A-41E06D10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02F0-7036-4C0F-9A9D-F263E28B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788D-CFAE-4FC6-BBA0-720DD189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E3CC-D352-45F9-87D6-2D39DBC9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BEB-6FF7-4AAD-B7F7-97568C31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FFA96-DA59-4837-BDBA-9D974E05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4D76-5115-499E-9D10-6361ABF2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86B09-5009-41C6-8E7E-1B8E36F3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3D67B-21FD-49B0-806D-7DEA32D6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3225-7540-4AC3-A609-4FBB29A9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2904-2259-45DF-ABD9-80BAB6B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DD6A3-085F-41C0-A068-895FF562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2E5E-1D3A-49EA-B286-00265022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05D1-E84C-4E5C-9D4E-37DF4267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907B3-A849-4937-9DE0-557F4BEA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D84-022C-4B5A-964A-E57681C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C0AA9-35FB-47F1-80F1-C816D8AE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4C2F8-8F3E-427C-8AD9-BD2C7521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34810-CD73-445F-A0FD-F9C1A880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51B78-55B0-4945-B6C4-D5B903D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2BCAF-1B73-4A8E-B9FC-C7ACDB69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49C64-5E69-412C-822C-5CD94936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A2EC-C6C6-4F63-988E-D71BC54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512CD-C436-44B8-943F-98DDEC2B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A02F-F5F0-4069-B147-966D32D4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9EB04-D314-4E0D-8A54-C5B58318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5CF-A770-488D-9F71-619455E5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AA6E-2277-4686-8E20-29BD38AD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2DFA4-47A7-4A09-A6C7-3D298A3B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9D2BE-F442-47CE-9CD4-46F19FD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B94B0-EF43-4C11-BB53-43EE2A74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51DBC-77BD-4453-8D2D-06FC09AA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12A31-C80C-4A0C-86C6-43E60A54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A9018-CDAE-4C2F-A639-DC35F0AB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A7C07-30F8-4748-91E5-8B2C0013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6421C-1DCA-4C55-A3A3-6E6E115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F3D1-6570-4285-8AF6-F6FC860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B09-81E5-4B5C-8566-B0670C9C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411F6-87A7-4D5B-80CB-1EE94FD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EDB58-B32B-4CC4-A560-F4DE580E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9D4C-CB83-4BE7-8554-B37A3AF8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AAE24-1208-432A-91E0-5CDD3B26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6C97-B92C-4D7F-B13D-A5B23561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002F7-B767-43C3-8039-4CAE641D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902E3-69C6-421D-805C-51D63C27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09CE9-31D9-4666-A649-7A6621F0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15003-EAD5-4CC7-AA06-FC756C76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23C37-88E4-4DD6-A584-2B01E92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F08-7CA1-4642-824E-135F15B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ED5CD-2AE9-42E3-9C41-D53AA72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50FCF-B053-4610-A703-0727DCFF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4F5EA-4A17-4482-BD75-3EEEA6F8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5B608-CCAE-4466-A558-97EF73B1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A282-4BDC-466F-AC24-57249B49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C84E6-8123-482D-B86F-10E6E254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E032-A218-40B1-9E6D-51589659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2A9F4-C8EB-4168-AE28-14FB5F19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845EF-9979-4383-973D-73496D75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81B03-871B-4F1E-B9CC-09599DC4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61F-1A4B-4046-B00F-8551B262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2775-EAE0-486D-A136-262C96D4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B0E6F-C2B0-4546-BEAC-3879575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9BDDC-7888-4A22-B022-5142EE07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B9680-DA95-4F3D-B411-05AA23B6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452E3-6AAD-4E2D-B2EC-30AD1270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046C-B0F0-430C-96CB-91BED820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AA382-461E-42C3-BAD1-E73E3598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19445-DB42-40AF-BFE6-9DB1A4EF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17758-E148-42A1-8079-46ECA579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5D1F2-5DBB-4B67-83B7-77A8182D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3AB3-7CAD-4F17-9667-FC50F508E2C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4184-6C1C-40C9-A43F-985B546AF6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2483-7439-41D6-932B-919AC9FBA64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E302-17DD-4F58-9CB0-40F02EDB5A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1BDD-B02D-4CF0-98CF-24C852C621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B8A8-632F-4702-AE4E-FC35FF83CD7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17AC-2487-4256-BA25-98878719918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16D3-AB1E-4750-941A-36AFE7E991F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9827-067D-4128-AD0C-D21282A6B16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BE31-152A-4883-89DC-FE0C1329B6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5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8557-7341-480C-81CB-D84ABAE9A14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D9B6-4090-47BC-8231-9CD9A1D281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432B-27B9-44D7-A245-421481BE54D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83EB-653F-408C-BB87-CB7D6266093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071E-1AA6-466C-B3DA-21AFE19DDC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7478-6754-4639-B73F-36956538AEF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D0C9-1C63-42AE-961A-DA248330BCA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258-6C82-49F9-AD6F-B1B38E9C154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5B4-BDA2-4C36-834D-63CC570D512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B_053_Banded_Krait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Lacertae_skin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3" descr="C:\Users\Home\Pictures\sm_full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13" name="Блок-схема: внутренняя память 4"/>
          <p:cNvSpPr/>
          <p:nvPr/>
        </p:nvSpPr>
        <p:spPr>
          <a:xfrm>
            <a:off x="0" y="1243080"/>
            <a:ext cx="9144000" cy="2171520"/>
          </a:xfrm>
          <a:prstGeom prst="flowChartInternalStorage">
            <a:avLst/>
          </a:prstGeom>
          <a:solidFill>
            <a:srgbClr val="ccff99"/>
          </a:solidFill>
          <a:ln cap="rnd" w="9360">
            <a:solidFill>
              <a:srgbClr val="987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начение пресмыкающихся в природе и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Picture 5" descr="i?id=58364943-09-24"/>
          <p:cNvPicPr/>
          <p:nvPr/>
        </p:nvPicPr>
        <p:blipFill>
          <a:blip r:embed="rId1"/>
          <a:stretch/>
        </p:blipFill>
        <p:spPr>
          <a:xfrm>
            <a:off x="0" y="1727280"/>
            <a:ext cx="3170160" cy="23670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7" descr="i?id=14473341-11-24"/>
          <p:cNvPicPr/>
          <p:nvPr/>
        </p:nvPicPr>
        <p:blipFill>
          <a:blip r:embed="rId2"/>
          <a:stretch/>
        </p:blipFill>
        <p:spPr>
          <a:xfrm>
            <a:off x="0" y="4495680"/>
            <a:ext cx="3106800" cy="2362320"/>
          </a:xfrm>
          <a:prstGeom prst="rect">
            <a:avLst/>
          </a:prstGeom>
          <a:ln w="0">
            <a:noFill/>
          </a:ln>
        </p:spPr>
      </p:pic>
      <p:sp>
        <p:nvSpPr>
          <p:cNvPr id="1316" name="Прямоугольник 1"/>
          <p:cNvSpPr/>
          <p:nvPr/>
        </p:nvSpPr>
        <p:spPr>
          <a:xfrm>
            <a:off x="762120" y="665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птилии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 от лат. слова «ползающ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2"/>
          <p:cNvSpPr/>
          <p:nvPr/>
        </p:nvSpPr>
        <p:spPr>
          <a:xfrm>
            <a:off x="3352680" y="122544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ресмыкающиеся – важная группа позвоночных животных, играющая значительную роль в биоразнообразии планеты и оказывающая влияние на жизнь чело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Picture 4" descr="06050603"/>
          <p:cNvPicPr/>
          <p:nvPr/>
        </p:nvPicPr>
        <p:blipFill>
          <a:blip r:embed="rId3"/>
          <a:stretch/>
        </p:blipFill>
        <p:spPr>
          <a:xfrm>
            <a:off x="5334120" y="4316400"/>
            <a:ext cx="3809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6" descr="i?id=28824793-10-24"/>
          <p:cNvPicPr/>
          <p:nvPr/>
        </p:nvPicPr>
        <p:blipFill>
          <a:blip r:embed="rId1"/>
          <a:stretch/>
        </p:blipFill>
        <p:spPr>
          <a:xfrm>
            <a:off x="0" y="838080"/>
            <a:ext cx="2544840" cy="190512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10" descr="i?id=1584309-08-24"/>
          <p:cNvPicPr/>
          <p:nvPr/>
        </p:nvPicPr>
        <p:blipFill>
          <a:blip r:embed="rId2"/>
          <a:stretch/>
        </p:blipFill>
        <p:spPr>
          <a:xfrm>
            <a:off x="0" y="2906640"/>
            <a:ext cx="2575080" cy="1893960"/>
          </a:xfrm>
          <a:prstGeom prst="rect">
            <a:avLst/>
          </a:prstGeom>
          <a:ln w="0">
            <a:noFill/>
          </a:ln>
        </p:spPr>
      </p:pic>
      <p:sp>
        <p:nvSpPr>
          <p:cNvPr id="1321" name="Прямоугольник 1"/>
          <p:cNvSpPr/>
          <p:nvPr/>
        </p:nvSpPr>
        <p:spPr>
          <a:xfrm>
            <a:off x="1447920" y="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entury Gothic"/>
              </a:rPr>
              <a:t>Экологическая р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ик 3"/>
          <p:cNvSpPr/>
          <p:nvPr/>
        </p:nvSpPr>
        <p:spPr>
          <a:xfrm>
            <a:off x="2631960" y="762120"/>
            <a:ext cx="6435720" cy="59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являются хищниками (змеи, ящерицы, крокодилы), контролирующими популяции грызунов, насекомых, рыб и других животны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которые виды пресмыкающихся способствуют распространению семян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оющая деятельность некоторых видов положительно влияет на структуру и аэрацию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Чувствительность к изменениям среды делает пресмыкающихся индикаторами экологического со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6" descr="img051"/>
          <p:cNvPicPr/>
          <p:nvPr/>
        </p:nvPicPr>
        <p:blipFill>
          <a:blip r:embed="rId3"/>
          <a:stretch/>
        </p:blipFill>
        <p:spPr>
          <a:xfrm>
            <a:off x="0" y="5029200"/>
            <a:ext cx="263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3" descr="220px-AB_053_Banded_Kra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5840" y="592200"/>
            <a:ext cx="2073240" cy="165096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3"/>
          <p:cNvSpPr/>
          <p:nvPr/>
        </p:nvSpPr>
        <p:spPr>
          <a:xfrm>
            <a:off x="1752480" y="-54000"/>
            <a:ext cx="89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entury Gothic"/>
              </a:rPr>
              <a:t>Значение для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utoShape 9"/>
          <p:cNvSpPr/>
          <p:nvPr/>
        </p:nvSpPr>
        <p:spPr>
          <a:xfrm>
            <a:off x="3857760" y="2895480"/>
            <a:ext cx="1428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AutoShape 11"/>
          <p:cNvSpPr/>
          <p:nvPr/>
        </p:nvSpPr>
        <p:spPr>
          <a:xfrm>
            <a:off x="3857760" y="2895480"/>
            <a:ext cx="1428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16" descr="220px-Lacertae_sk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26320" y="625320"/>
            <a:ext cx="2313000" cy="1737000"/>
          </a:xfrm>
          <a:prstGeom prst="rect">
            <a:avLst/>
          </a:prstGeom>
          <a:ln w="0">
            <a:noFill/>
          </a:ln>
        </p:spPr>
      </p:pic>
      <p:sp>
        <p:nvSpPr>
          <p:cNvPr id="1329" name="Прямоугольник 2"/>
          <p:cNvSpPr/>
          <p:nvPr/>
        </p:nvSpPr>
        <p:spPr>
          <a:xfrm>
            <a:off x="228600" y="323532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яде культур мясо и яйца пресмыкающихся используются в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а используется в производстве изделий из кожи, панцири черепах – для изготовления укра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 змей – источник для создания лекарственных препар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смыкающиеся – объекты фундаментальных биолог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Picture 4" descr="06050605"/>
          <p:cNvPicPr/>
          <p:nvPr/>
        </p:nvPicPr>
        <p:blipFill>
          <a:blip r:embed="rId5"/>
          <a:stretch/>
        </p:blipFill>
        <p:spPr>
          <a:xfrm>
            <a:off x="2286000" y="576360"/>
            <a:ext cx="4362480" cy="26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263680" y="26640"/>
            <a:ext cx="56088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Негативное воздействие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332" name="Picture 9" descr="i?id=76639385-05-24"/>
          <p:cNvPicPr/>
          <p:nvPr/>
        </p:nvPicPr>
        <p:blipFill>
          <a:blip r:embed="rId1"/>
          <a:stretch/>
        </p:blipFill>
        <p:spPr>
          <a:xfrm>
            <a:off x="-38160" y="-4680"/>
            <a:ext cx="2301840" cy="172080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12" descr="i?id=190043862-15-24"/>
          <p:cNvPicPr/>
          <p:nvPr/>
        </p:nvPicPr>
        <p:blipFill>
          <a:blip r:embed="rId2"/>
          <a:stretch/>
        </p:blipFill>
        <p:spPr>
          <a:xfrm>
            <a:off x="7872480" y="-4680"/>
            <a:ext cx="1263600" cy="1963800"/>
          </a:xfrm>
          <a:prstGeom prst="rect">
            <a:avLst/>
          </a:prstGeom>
          <a:ln w="0">
            <a:noFill/>
          </a:ln>
        </p:spPr>
      </p:pic>
      <p:sp>
        <p:nvSpPr>
          <p:cNvPr id="1334" name="Прямоугольник 2"/>
          <p:cNvSpPr/>
          <p:nvPr/>
        </p:nvSpPr>
        <p:spPr>
          <a:xfrm>
            <a:off x="1112760" y="1793880"/>
            <a:ext cx="7024680" cy="26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Ядовитые змеи представляют потенциальную опасность для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Некоторые виды могут быть переносчиками инфе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5" name="Picture 10" descr="i?id=35990709-10-24"/>
          <p:cNvPicPr/>
          <p:nvPr/>
        </p:nvPicPr>
        <p:blipFill>
          <a:blip r:embed="rId3"/>
          <a:stretch/>
        </p:blipFill>
        <p:spPr>
          <a:xfrm>
            <a:off x="0" y="4705200"/>
            <a:ext cx="3095640" cy="213228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9" descr="i?id=112246582-14-24"/>
          <p:cNvPicPr/>
          <p:nvPr/>
        </p:nvPicPr>
        <p:blipFill>
          <a:blip r:embed="rId4"/>
          <a:stretch/>
        </p:blipFill>
        <p:spPr>
          <a:xfrm>
            <a:off x="6743880" y="5029200"/>
            <a:ext cx="240012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ext Box 23"/>
          <p:cNvSpPr/>
          <p:nvPr/>
        </p:nvSpPr>
        <p:spPr>
          <a:xfrm>
            <a:off x="228600" y="-190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храна пресмык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Прямоугольник 1"/>
          <p:cNvSpPr/>
          <p:nvPr/>
        </p:nvSpPr>
        <p:spPr>
          <a:xfrm>
            <a:off x="762120" y="550800"/>
            <a:ext cx="83628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Многие виды пресмыкающихся находятся под угрозой исчезновения. Необходимы меры по их охране и сохранению местообит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ff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едиземноморская чере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ff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вказская гадю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ff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адюка Дин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ff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льневосточная чере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ff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едиземноморский гекк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Рисунок 5" descr=""/>
          <p:cNvPicPr/>
          <p:nvPr/>
        </p:nvPicPr>
        <p:blipFill>
          <a:blip r:embed="rId1"/>
          <a:stretch/>
        </p:blipFill>
        <p:spPr>
          <a:xfrm>
            <a:off x="19080" y="1847880"/>
            <a:ext cx="3029040" cy="1709640"/>
          </a:xfrm>
          <a:prstGeom prst="rect">
            <a:avLst/>
          </a:prstGeom>
          <a:ln w="0">
            <a:noFill/>
          </a:ln>
        </p:spPr>
      </p:pic>
      <p:pic>
        <p:nvPicPr>
          <p:cNvPr id="1340" name="Рисунок 6" descr=""/>
          <p:cNvPicPr/>
          <p:nvPr/>
        </p:nvPicPr>
        <p:blipFill>
          <a:blip r:embed="rId2"/>
          <a:stretch/>
        </p:blipFill>
        <p:spPr>
          <a:xfrm>
            <a:off x="0" y="4184640"/>
            <a:ext cx="2816280" cy="2154240"/>
          </a:xfrm>
          <a:prstGeom prst="rect">
            <a:avLst/>
          </a:prstGeom>
          <a:ln w="0">
            <a:noFill/>
          </a:ln>
        </p:spPr>
      </p:pic>
      <p:pic>
        <p:nvPicPr>
          <p:cNvPr id="1341" name="Рисунок 7" descr=""/>
          <p:cNvPicPr/>
          <p:nvPr/>
        </p:nvPicPr>
        <p:blipFill>
          <a:blip r:embed="rId3"/>
          <a:stretch/>
        </p:blipFill>
        <p:spPr>
          <a:xfrm>
            <a:off x="6313320" y="3884760"/>
            <a:ext cx="3048120" cy="2100240"/>
          </a:xfrm>
          <a:prstGeom prst="rect">
            <a:avLst/>
          </a:prstGeom>
          <a:ln w="0">
            <a:noFill/>
          </a:ln>
        </p:spPr>
      </p:pic>
      <p:pic>
        <p:nvPicPr>
          <p:cNvPr id="1342" name="Рисунок 8" descr=""/>
          <p:cNvPicPr/>
          <p:nvPr/>
        </p:nvPicPr>
        <p:blipFill>
          <a:blip r:embed="rId4"/>
          <a:stretch/>
        </p:blipFill>
        <p:spPr>
          <a:xfrm>
            <a:off x="6877080" y="1887480"/>
            <a:ext cx="2266920" cy="1709640"/>
          </a:xfrm>
          <a:prstGeom prst="rect">
            <a:avLst/>
          </a:prstGeom>
          <a:ln w="0">
            <a:noFill/>
          </a:ln>
        </p:spPr>
      </p:pic>
      <p:pic>
        <p:nvPicPr>
          <p:cNvPr id="1343" name="Рисунок 9" descr=""/>
          <p:cNvPicPr/>
          <p:nvPr/>
        </p:nvPicPr>
        <p:blipFill>
          <a:blip r:embed="rId5"/>
          <a:stretch/>
        </p:blipFill>
        <p:spPr>
          <a:xfrm>
            <a:off x="2990880" y="4184640"/>
            <a:ext cx="31860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3"/>
          <p:cNvSpPr/>
          <p:nvPr/>
        </p:nvSpPr>
        <p:spPr>
          <a:xfrm>
            <a:off x="152280" y="579600"/>
            <a:ext cx="520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entury Gothic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4" descr="C:\Users\Home\Pictures\История зоологии\reading.png"/>
          <p:cNvPicPr/>
          <p:nvPr/>
        </p:nvPicPr>
        <p:blipFill>
          <a:blip r:embed="rId1"/>
          <a:stretch/>
        </p:blipFill>
        <p:spPr>
          <a:xfrm>
            <a:off x="-11160" y="3052800"/>
            <a:ext cx="3575160" cy="378756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5" descr=""/>
          <p:cNvPicPr/>
          <p:nvPr/>
        </p:nvPicPr>
        <p:blipFill>
          <a:blip r:embed="rId2"/>
          <a:stretch/>
        </p:blipFill>
        <p:spPr>
          <a:xfrm>
            <a:off x="5943600" y="4599000"/>
            <a:ext cx="32209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STUFF</cp:lastModifiedBy>
  <dcterms:modified xsi:type="dcterms:W3CDTF">2025-01-26T13:36:20Z</dcterms:modified>
  <cp:revision>138</cp:revision>
  <dc:subject/>
  <dc:title>Слайд 1</dc:title>
</cp:coreProperties>
</file>