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2C1-8D2D-4269-98F6-7737BA42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FB4-EFC0-49D2-AA86-413FE80E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D6F-7B20-47BA-843E-908BC7A8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19C-B4A4-4A20-AC3A-3E9B58C7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228-F6AF-459C-B433-DAEA4D7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7CC-C3D7-4401-8D7F-F8C1F656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4EF-AA0E-4A87-A73C-EBF71D93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821-0890-43D2-A6C7-6D8A573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413-5B61-41BB-8C57-7F87808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9DA-C55B-420A-98C1-673B1B0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017-073A-4CCE-94B9-0C8DE27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CA3-D88C-45EB-8127-B9FFF07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E1D-B05E-4E18-8209-83F112156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Виды лекарственных растений, произрастающие в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ск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ttps://pp.userapi.com/c303808/v303808617/1d5a/gBgEwjklsv8.jpg"/>
          <p:cNvPicPr/>
          <p:nvPr/>
        </p:nvPicPr>
        <p:blipFill>
          <a:blip r:embed="rId1"/>
          <a:stretch/>
        </p:blipFill>
        <p:spPr>
          <a:xfrm>
            <a:off x="304920" y="2263680"/>
            <a:ext cx="8381880" cy="459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ковская область обладает богатой фло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енные растения имеют давнюю традицию исполь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ние их видов важно для сохранения народного опыта и натураль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3674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омашка апте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шка похожа на солнышко. Ромашка как лекарственное средство популярно у многи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ар из ромашки применяют при простудах и заболеваниях желудка, а так же как полоскание полости рта. А если таким отваром помыть светлые волосы, то они приобретут золотистый отт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7" descr="Картинки по запросу фото ромашки лекарственной"/>
          <p:cNvPicPr/>
          <p:nvPr/>
        </p:nvPicPr>
        <p:blipFill>
          <a:blip r:embed="rId1"/>
          <a:stretch/>
        </p:blipFill>
        <p:spPr>
          <a:xfrm>
            <a:off x="457200" y="17524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s://avatars.mds.yandex.net/get-zen_doc/1641493/pub_5d04c516cf474f0da0398504_5d04c82170b0790d8ad5f6f2/scale_1200"/>
          <p:cNvPicPr/>
          <p:nvPr/>
        </p:nvPicPr>
        <p:blipFill>
          <a:blip r:embed="rId1"/>
          <a:stretch/>
        </p:blipFill>
        <p:spPr>
          <a:xfrm>
            <a:off x="0" y="1587600"/>
            <a:ext cx="441972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4648320" y="1371600"/>
            <a:ext cx="43434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е листья подорожника используются как ранозаживляющее средство при ушибах и порезах, а сухие – как отхаркивающее сре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стьях этого растения содержатся витамины С и К, фитонциды, ферменты, дубильные вещества и каро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порыш и одуванчик лекарств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1280" y="18288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ыш - мочегонное и кровоостанавливаю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вещества, способствующие выведению лишней жидкости и нормализующие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уванчик богат витамином С, желчегонное сре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лучшает аппетит, способствует пищеварению и обмену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32148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8768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Иван-чай и пиж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6200" y="14475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-чай - противовоспалительные и мочегонные свойства. Обладает успокаивающим действием, используется при заболеваниях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жма - антисептические и противовоспа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ует аппетит, применяется при глистных инфек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0280" y="3886200"/>
            <a:ext cx="354960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4122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Можжевельник и земляника ле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6200" y="152388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жжевельник - мочегонное, антисептическо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лучшает обмен веществ, обладает противовоспалительным действи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емляника лесная - мочегонные и кровоостанавливающие свойс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огата витаминами и антиоксидантами, полезна для лечения заболеваний желудка и кишечни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23880" y="3917880"/>
            <a:ext cx="2828880" cy="294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0" y="1371600"/>
            <a:ext cx="34066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и сборе лекарственных растений нужно помнить о том, ч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собирать растения возле автомобильных и железных до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собирать лекарственные растения в сырую, мокрую погоду, лучше это сделать днём, когда сухо и я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пробовать растения на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рвать много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ирать лекарственные растения надо каждый вид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сбора лекарственных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тщательно вымыть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Спасибо за внимание!</a:t>
            </a:r>
            <a:br>
              <a:rPr sz="4800"/>
            </a:b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Будьте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1:56:58Z</dcterms:created>
  <dc:creator>home</dc:creator>
  <dc:description/>
  <dc:language>en-US</dc:language>
  <cp:lastModifiedBy>labtox</cp:lastModifiedBy>
  <dcterms:modified xsi:type="dcterms:W3CDTF">2024-11-21T14:15:1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