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F5E-E3A8-4289-BF20-5CC28C1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31A-693A-4B7B-91B8-610999D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437-FC91-46FD-B5EE-3FC7953F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A58-CC4F-460F-89C0-8D135C49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950-58B0-429F-8E83-8FF01B21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780-0F9D-44B4-A7AE-A81A1251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EFF-1177-47EB-BC32-272914E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A21-549E-4D14-B698-C170CD2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A9C-5D7A-4B94-AF40-70A78412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0BF-477F-46E7-A70D-CD65978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636-74A7-449B-98CB-71C3090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EFF-4E11-4484-8C98-C461A42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A3C4-4E54-4F47-8548-4C006948A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1268280"/>
            <a:ext cx="8718840" cy="2584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Заголовок 1"/>
          <p:cNvGrpSpPr/>
          <p:nvPr/>
        </p:nvGrpSpPr>
        <p:grpSpPr>
          <a:xfrm>
            <a:off x="-103320" y="-103320"/>
            <a:ext cx="9356760" cy="7070760"/>
            <a:chOff x="-103320" y="-103320"/>
            <a:chExt cx="9356760" cy="7070760"/>
          </a:xfrm>
        </p:grpSpPr>
        <p:pic>
          <p:nvPicPr>
            <p:cNvPr id="10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03320" y="-103320"/>
              <a:ext cx="9356760" cy="70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2050920" y="18446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c09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4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орный хребет с уникальной экосистемой. Дом для амурского тигра, гималайского медведя, пятнистого оленя и многих других редких видов. Заповедники Сихотэ-Алиня – под охраной ЮНЕС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108000" y="3787920"/>
            <a:ext cx="319248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592360" cy="249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6156360" y="387972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5"/>
          <a:stretch/>
        </p:blipFill>
        <p:spPr>
          <a:xfrm>
            <a:off x="2378160" y="115920"/>
            <a:ext cx="4284720" cy="927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5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еплое море с живописными бухтами и песчаными пляжами. Богатое морское биоразнообразие: киты, дельфины, морские звезды. Популярные курорты Владивостока и Находки предлагают разнообразный отд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оугольник 7" descr=""/>
          <p:cNvPicPr/>
          <p:nvPr/>
        </p:nvPicPr>
        <p:blipFill>
          <a:blip r:embed="rId2"/>
          <a:stretch/>
        </p:blipFill>
        <p:spPr>
          <a:xfrm>
            <a:off x="1719360" y="115920"/>
            <a:ext cx="4943520" cy="927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34920" y="4292640"/>
            <a:ext cx="9059760" cy="192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-103320" y="-103320"/>
            <a:ext cx="9356760" cy="7070760"/>
            <a:chOff x="-103320" y="-103320"/>
            <a:chExt cx="9356760" cy="707076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03320" y="-103320"/>
              <a:ext cx="9356760" cy="70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45720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зеро Ханка – крупнейшее на Дальнем Востоке, дом для японского журавля. Уссурийская тайга – уникальное сочетание умеренных и субтропических лесов. Необходимо бережное отношение к этим хрупким экосистема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2030400" y="-23760"/>
            <a:ext cx="5010120" cy="113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108000" y="3879720"/>
            <a:ext cx="21603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2411280" y="4092480"/>
            <a:ext cx="2136960" cy="22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4656240" y="3976560"/>
            <a:ext cx="2063520" cy="231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6948360" y="3976560"/>
            <a:ext cx="2087640" cy="234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3952800" cy="2562120"/>
          </a:xfrm>
          <a:prstGeom prst="rect">
            <a:avLst/>
          </a:prstGeom>
          <a:ln w="0">
            <a:noFill/>
          </a:ln>
        </p:spPr>
      </p:pic>
      <p:grpSp>
        <p:nvGrpSpPr>
          <p:cNvPr id="67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6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олица Приморь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очетание русской и азиатской архитектуры. Музеи (Приморский государственный объединенный музей им. В.К. Арсеньева), исторические здания, динамичный современный мегаполи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7" descr=""/>
          <p:cNvPicPr/>
          <p:nvPr/>
        </p:nvPicPr>
        <p:blipFill>
          <a:blip r:embed="rId3"/>
          <a:stretch/>
        </p:blipFill>
        <p:spPr>
          <a:xfrm>
            <a:off x="298440" y="115920"/>
            <a:ext cx="8736120" cy="828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4"/>
          <a:stretch/>
        </p:blipFill>
        <p:spPr>
          <a:xfrm>
            <a:off x="3203640" y="4594320"/>
            <a:ext cx="3051000" cy="1976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5"/>
          <a:stretch/>
        </p:blipFill>
        <p:spPr>
          <a:xfrm>
            <a:off x="34920" y="4518000"/>
            <a:ext cx="3097080" cy="206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6"/>
          <a:stretch/>
        </p:blipFill>
        <p:spPr>
          <a:xfrm>
            <a:off x="6324480" y="4581360"/>
            <a:ext cx="2766960" cy="2055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114880"/>
          </a:xfrm>
          <a:prstGeom prst="rect">
            <a:avLst/>
          </a:prstGeom>
          <a:ln w="0">
            <a:noFill/>
          </a:ln>
        </p:spPr>
      </p:pic>
      <p:grpSp>
        <p:nvGrpSpPr>
          <p:cNvPr id="76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7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епость Владивосток – свидетель истории. Памятники Русско-японской войны. Музеи, отражающие культуру коренных народов Приморья (Удэге, Нанайцы, Нивх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7" descr=""/>
          <p:cNvPicPr/>
          <p:nvPr/>
        </p:nvPicPr>
        <p:blipFill>
          <a:blip r:embed="rId3"/>
          <a:stretch/>
        </p:blipFill>
        <p:spPr>
          <a:xfrm>
            <a:off x="-109440" y="115920"/>
            <a:ext cx="9375840" cy="768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4992480" cy="2759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5"/>
          <a:stretch/>
        </p:blipFill>
        <p:spPr>
          <a:xfrm>
            <a:off x="5435640" y="3357720"/>
            <a:ext cx="3541680" cy="3322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457200" y="11955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т экспедиций В.К. Арсеньева до современного мегаполиса. Русско-японская война, советский период развития, новый этап развития как ключевой регион Дальнего Вост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7" descr=""/>
          <p:cNvPicPr/>
          <p:nvPr/>
        </p:nvPicPr>
        <p:blipFill>
          <a:blip r:embed="rId2"/>
          <a:stretch/>
        </p:blipFill>
        <p:spPr>
          <a:xfrm>
            <a:off x="23760" y="-96840"/>
            <a:ext cx="887112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4838760" cy="324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лючевой транспортный узел Дальнего Востока. Развивающаяся экономика: рыболовство, судостроение, туризм. Свободный порт Владивосток – новые возмо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596880" y="115920"/>
            <a:ext cx="822312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3"/>
          <a:stretch/>
        </p:blipFill>
        <p:spPr>
          <a:xfrm>
            <a:off x="1332000" y="3495600"/>
            <a:ext cx="6119640" cy="3362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Заголовок 1"/>
          <p:cNvGrpSpPr/>
          <p:nvPr/>
        </p:nvGrpSpPr>
        <p:grpSpPr>
          <a:xfrm>
            <a:off x="-139680" y="-139680"/>
            <a:ext cx="9429840" cy="7143840"/>
            <a:chOff x="-139680" y="-139680"/>
            <a:chExt cx="9429840" cy="7143840"/>
          </a:xfrm>
        </p:grpSpPr>
        <p:pic>
          <p:nvPicPr>
            <p:cNvPr id="9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39680" y="-139680"/>
              <a:ext cx="9429840" cy="714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охранение уникальной природы – приоритетная задача. Экологические проекты, борьба за сохранение редких видов, устойчивое развитие тур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7" descr=""/>
          <p:cNvPicPr/>
          <p:nvPr/>
        </p:nvPicPr>
        <p:blipFill>
          <a:blip r:embed="rId2"/>
          <a:stretch/>
        </p:blipFill>
        <p:spPr>
          <a:xfrm>
            <a:off x="212760" y="115920"/>
            <a:ext cx="8894880" cy="82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09520" y="3780000"/>
            <a:ext cx="4406760" cy="282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4713120" y="3780000"/>
            <a:ext cx="4221360" cy="2822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7:11:28Z</dcterms:created>
  <dc:creator>Pasha-Hard</dc:creator>
  <dc:description/>
  <dc:language>en-US</dc:language>
  <cp:lastModifiedBy>STUFF</cp:lastModifiedBy>
  <dcterms:modified xsi:type="dcterms:W3CDTF">2024-11-30T09:08:50Z</dcterms:modified>
  <cp:revision>59</cp:revision>
  <dc:subject/>
  <dc:title>Слайд 1</dc:title>
</cp:coreProperties>
</file>